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20.wmf" ContentType="image/x-wmf"/>
  <Override PartName="/ppt/media/image119.png" ContentType="image/png"/>
  <Override PartName="/ppt/media/image117.wmf" ContentType="image/x-wmf"/>
  <Override PartName="/ppt/media/image116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44.png" ContentType="image/png"/>
  <Override PartName="/ppt/media/image108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png" ContentType="image/png"/>
  <Override PartName="/ppt/media/image171.png" ContentType="image/png"/>
  <Override PartName="/ppt/media/image101.wmf" ContentType="image/x-wmf"/>
  <Override PartName="/ppt/media/image96.wmf" ContentType="image/x-wmf"/>
  <Override PartName="/ppt/media/image28.wmf" ContentType="image/x-wmf"/>
  <Override PartName="/ppt/media/image95.png" ContentType="image/png"/>
  <Override PartName="/ppt/media/image27.png" ContentType="image/png"/>
  <Override PartName="/ppt/media/image162.wmf" ContentType="image/x-wmf"/>
  <Override PartName="/ppt/media/image92.wmf" ContentType="image/x-wmf"/>
  <Override PartName="/ppt/media/image24.wmf" ContentType="image/x-wmf"/>
  <Override PartName="/ppt/media/image89.wmf" ContentType="image/x-wmf"/>
  <Override PartName="/ppt/media/image87.wmf" ContentType="image/x-wmf"/>
  <Override PartName="/ppt/media/image81.wmf" ContentType="image/x-wmf"/>
  <Override PartName="/ppt/media/image13.wmf" ContentType="image/x-wmf"/>
  <Override PartName="/ppt/media/image76.wmf" ContentType="image/x-wmf"/>
  <Override PartName="/ppt/media/image75.wmf" ContentType="image/x-wmf"/>
  <Override PartName="/ppt/media/image102.png" ContentType="image/png"/>
  <Override PartName="/ppt/media/image170.png" ContentType="image/png"/>
  <Override PartName="/ppt/media/image73.wmf" ContentType="image/x-wmf"/>
  <Override PartName="/ppt/media/image72.wmf" ContentType="image/x-wmf"/>
  <Override PartName="/ppt/media/image71.wmf" ContentType="image/x-wmf"/>
  <Override PartName="/ppt/media/image91.wmf" ContentType="image/x-wmf"/>
  <Override PartName="/ppt/media/image23.wmf" ContentType="image/x-wmf"/>
  <Override PartName="/ppt/media/image69.png" ContentType="image/png"/>
  <Override PartName="/ppt/media/image136.wmf" ContentType="image/x-wmf"/>
  <Override PartName="/ppt/media/image66.wmf" ContentType="image/x-wmf"/>
  <Override PartName="/ppt/media/image64.wmf" ContentType="image/x-wmf"/>
  <Override PartName="/ppt/media/image63.wmf" ContentType="image/x-wmf"/>
  <Override PartName="/ppt/media/image109.wmf" ContentType="image/x-wmf"/>
  <Override PartName="/ppt/media/image152.wmf" ContentType="image/x-wmf"/>
  <Override PartName="/ppt/media/image1.wmf" ContentType="image/x-wmf"/>
  <Override PartName="/ppt/media/image153.wmf" ContentType="image/x-wmf"/>
  <Override PartName="/ppt/media/image52.png" ContentType="image/png"/>
  <Override PartName="/ppt/media/image149.png" ContentType="image/png"/>
  <Override PartName="/ppt/media/image115.png" ContentType="image/png"/>
  <Override PartName="/ppt/media/image38.wmf" ContentType="image/x-wmf"/>
  <Override PartName="/ppt/media/image34.wmf" ContentType="image/x-wmf"/>
  <Override PartName="/ppt/media/image61.wmf" ContentType="image/x-wmf"/>
  <Override PartName="/ppt/media/image106.wmf" ContentType="image/x-wmf"/>
  <Override PartName="/ppt/media/image39.png" ContentType="image/png"/>
  <Override PartName="/ppt/media/image46.wmf" ContentType="image/x-wmf"/>
  <Override PartName="/ppt/media/image50.wmf" ContentType="image/x-wmf"/>
  <Override PartName="/ppt/media/image53.wmf" ContentType="image/x-wmf"/>
  <Override PartName="/ppt/media/image77.png" ContentType="image/png"/>
  <Override PartName="/ppt/media/image144.wmf" ContentType="image/x-wmf"/>
  <Override PartName="/ppt/media/image54.wmf" ContentType="image/x-wmf"/>
  <Override PartName="/ppt/media/image41.wmf" ContentType="image/x-wmf"/>
  <Override PartName="/ppt/media/image138.wmf" ContentType="image/x-wmf"/>
  <Override PartName="/ppt/media/image97.png" ContentType="image/png"/>
  <Override PartName="/ppt/media/image164.wmf" ContentType="image/x-wmf"/>
  <Override PartName="/ppt/media/image55.wmf" ContentType="image/x-wmf"/>
  <Override PartName="/ppt/media/image146.wmf" ContentType="image/x-wmf"/>
  <Override PartName="/ppt/media/image147.png" ContentType="image/png"/>
  <Override PartName="/ppt/media/image148.wmf" ContentType="image/x-wmf"/>
  <Override PartName="/ppt/media/image51.wmf" ContentType="image/x-wmf"/>
  <Override PartName="/ppt/media/image4.png" ContentType="image/png"/>
  <Override PartName="/ppt/media/image151.wmf" ContentType="image/x-wmf"/>
  <Override PartName="/ppt/media/image16.png" ContentType="image/png"/>
  <Override PartName="/ppt/media/image160.wmf" ContentType="image/x-wmf"/>
  <Override PartName="/ppt/media/image40.wmf" ContentType="image/x-wmf"/>
  <Override PartName="/ppt/media/image137.wmf" ContentType="image/x-wmf"/>
  <Override PartName="/ppt/media/image150.wmf" ContentType="image/x-wmf"/>
  <Override PartName="/ppt/media/image83.png" ContentType="image/png"/>
  <Override PartName="/ppt/media/image163.wmf" ContentType="image/x-wmf"/>
  <Override PartName="/ppt/media/image143.png" ContentType="image/png"/>
  <Override PartName="/ppt/media/image49.wmf" ContentType="image/x-wmf"/>
  <Override PartName="/ppt/media/image33.png" ContentType="image/png"/>
  <Override PartName="/ppt/media/image100.wmf" ContentType="image/x-wmf"/>
  <Override PartName="/ppt/media/image166.png" ContentType="image/png"/>
  <Override PartName="/ppt/media/image57.wmf" ContentType="image/x-wmf"/>
  <Override PartName="/ppt/media/image156.wmf" ContentType="image/x-wmf"/>
  <Override PartName="/ppt/media/image133.wmf" ContentType="image/x-wmf"/>
  <Override PartName="/ppt/media/image169.png" ContentType="image/png"/>
  <Override PartName="/ppt/media/image174.png" ContentType="image/png"/>
  <Override PartName="/ppt/media/image131.wmf" ContentType="image/x-wmf"/>
  <Override PartName="/ppt/media/image141.png" ContentType="image/png"/>
  <Override PartName="/ppt/media/image47.wmf" ContentType="image/x-wmf"/>
  <Override PartName="/ppt/media/image142.wmf" ContentType="image/x-wmf"/>
  <Override PartName="/ppt/media/image139.png" ContentType="image/png"/>
  <Override PartName="/ppt/media/image140.wmf" ContentType="image/x-wmf"/>
  <Override PartName="/ppt/media/image135.png" ContentType="image/png"/>
  <Override PartName="/ppt/media/image45.wmf" ContentType="image/x-wmf"/>
  <Override PartName="/ppt/media/image168.wmf" ContentType="image/x-wmf"/>
  <Override PartName="/ppt/media/image129.wmf" ContentType="image/x-wmf"/>
  <Override PartName="/ppt/media/image32.wmf" ContentType="image/x-wmf"/>
  <Override PartName="/ppt/media/image167.wmf" ContentType="image/x-wmf"/>
  <Override PartName="/ppt/media/image48.png" ContentType="image/png"/>
  <Override PartName="/ppt/media/image70.wmf" ContentType="image/x-wmf"/>
  <Override PartName="/ppt/media/image130.wmf" ContentType="image/x-wmf"/>
  <Override PartName="/ppt/media/image11.png" ContentType="image/png"/>
  <Override PartName="/ppt/media/image79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74.png" ContentType="image/png"/>
  <Override PartName="/ppt/media/image42.wmf" ContentType="image/x-wmf"/>
  <Override PartName="/ppt/media/image98.png" ContentType="image/png"/>
  <Override PartName="/ppt/media/image165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37.wmf" ContentType="image/x-wmf"/>
  <Override PartName="/ppt/media/image62.wmf" ContentType="image/x-wmf"/>
  <Override PartName="/ppt/media/image159.wmf" ContentType="image/x-wmf"/>
  <Override PartName="/ppt/media/image7.wmf" ContentType="image/x-wmf"/>
  <Override PartName="/ppt/media/image84.wmf" ContentType="image/x-wmf"/>
  <Override PartName="/ppt/media/image36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29.wmf" ContentType="image/x-wmf"/>
  <Override PartName="/ppt/media/image94.wmf" ContentType="image/x-wmf"/>
  <Override PartName="/ppt/media/image10.wmf" ContentType="image/x-wmf"/>
  <Override PartName="/ppt/media/image175.wmf" ContentType="image/x-wmf"/>
  <Override PartName="/ppt/media/image107.wmf" ContentType="image/x-wmf"/>
  <Override PartName="/ppt/media/image35.wmf" ContentType="image/x-wmf"/>
  <Override PartName="/ppt/media/image78.png" ContentType="image/png"/>
  <Override PartName="/ppt/media/image145.wmf" ContentType="image/x-wmf"/>
  <Override PartName="/ppt/media/image161.wmf" ContentType="image/x-wmf"/>
  <Override PartName="/ppt/media/image26.png" ContentType="image/png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155.wmf" ContentType="image/x-wmf"/>
  <Override PartName="/ppt/media/image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19.png" ContentType="image/png"/>
  <Override PartName="/ppt/media/image154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68.png" ContentType="image/png"/>
  <Override PartName="/ppt/media/image134.wmf" ContentType="image/x-wmf"/>
  <Override PartName="/ppt/media/image67.png" ContentType="image/png"/>
  <Override PartName="/ppt/media/image56.wmf" ContentType="image/x-wmf"/>
  <Override PartName="/ppt/media/image99.png" ContentType="image/png"/>
  <Override PartName="/ppt/media/image20.png" ContentType="image/png"/>
  <Override PartName="/ppt/media/image88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43.png" ContentType="image/png"/>
  <Override PartName="/ppt/media/image90.wmf" ContentType="image/x-wmf"/>
  <Override PartName="/ppt/media/image22.wmf" ContentType="image/x-wmf"/>
  <Override PartName="/ppt/media/image65.png" ContentType="image/png"/>
  <Override PartName="/ppt/media/image13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7A7-6495-4E5B-8D27-7DA1A9D2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1FA9-30C0-4220-A939-B1E84411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C43-C8FE-4292-AAFB-5CB73575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DEE4-0C40-4ED5-AD02-65264525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90C4-916D-47D4-9CF8-7527B414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FAE-1D1D-44BE-9AB0-F45681B9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41D2-042C-44B2-8290-225A6D1F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C28-9F81-498B-9319-8FE8B68B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9F7-BBED-4573-B3F5-667E2B72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53B-8138-4262-BA20-F61C86E6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06A9-BC91-4E21-9975-36AA9886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31E-47E6-441B-89EC-A97CE1D8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1C20-4F86-47A7-A7DB-C3B9180B1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44.wmf"/><Relationship Id="rId2" Type="http://schemas.openxmlformats.org/officeDocument/2006/relationships/image" Target="../media/image145.wmf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46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47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48.wmf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49.png"/><Relationship Id="rId2" Type="http://schemas.openxmlformats.org/officeDocument/2006/relationships/image" Target="../media/image150.wmf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51.wmf"/><Relationship Id="rId2" Type="http://schemas.openxmlformats.org/officeDocument/2006/relationships/image" Target="../media/image152.wmf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53.wmf"/><Relationship Id="rId2" Type="http://schemas.openxmlformats.org/officeDocument/2006/relationships/image" Target="../media/image154.wmf"/><Relationship Id="rId3" Type="http://schemas.openxmlformats.org/officeDocument/2006/relationships/image" Target="../media/image155.wmf"/><Relationship Id="rId4" Type="http://schemas.openxmlformats.org/officeDocument/2006/relationships/image" Target="../media/image156.wmf"/><Relationship Id="rId5" Type="http://schemas.openxmlformats.org/officeDocument/2006/relationships/image" Target="../media/image157.wmf"/><Relationship Id="rId6" Type="http://schemas.openxmlformats.org/officeDocument/2006/relationships/image" Target="../media/image158.wmf"/><Relationship Id="rId7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59.wmf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60.wmf"/><Relationship Id="rId2" Type="http://schemas.openxmlformats.org/officeDocument/2006/relationships/image" Target="../media/image161.wmf"/><Relationship Id="rId3" Type="http://schemas.openxmlformats.org/officeDocument/2006/relationships/image" Target="../media/image162.wmf"/><Relationship Id="rId4" Type="http://schemas.openxmlformats.org/officeDocument/2006/relationships/image" Target="../media/image163.wmf"/><Relationship Id="rId5" Type="http://schemas.openxmlformats.org/officeDocument/2006/relationships/image" Target="../media/image164.wmf"/><Relationship Id="rId6" Type="http://schemas.openxmlformats.org/officeDocument/2006/relationships/image" Target="../media/image165.wmf"/><Relationship Id="rId7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6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67.wmf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68.wmf"/><Relationship Id="rId2" Type="http://schemas.openxmlformats.org/officeDocument/2006/relationships/image" Target="../media/image169.png"/><Relationship Id="rId3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70.png"/><Relationship Id="rId2" Type="http://schemas.openxmlformats.org/officeDocument/2006/relationships/image" Target="../media/image171.png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72.wmf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73.wmf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74.png"/><Relationship Id="rId2" Type="http://schemas.openxmlformats.org/officeDocument/2006/relationships/image" Target="../media/image17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image" Target="../media/image83.png"/><Relationship Id="rId3" Type="http://schemas.openxmlformats.org/officeDocument/2006/relationships/image" Target="../media/image84.wmf"/><Relationship Id="rId4" Type="http://schemas.openxmlformats.org/officeDocument/2006/relationships/image" Target="../media/image85.wm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png"/><Relationship Id="rId3" Type="http://schemas.openxmlformats.org/officeDocument/2006/relationships/image" Target="../media/image96.wm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image" Target="../media/image105.wmf"/><Relationship Id="rId3" Type="http://schemas.openxmlformats.org/officeDocument/2006/relationships/image" Target="../media/image106.wmf"/><Relationship Id="rId4" Type="http://schemas.openxmlformats.org/officeDocument/2006/relationships/image" Target="../media/image107.wmf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8.wmf"/><Relationship Id="rId2" Type="http://schemas.openxmlformats.org/officeDocument/2006/relationships/image" Target="../media/image109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0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2.wmf"/><Relationship Id="rId2" Type="http://schemas.openxmlformats.org/officeDocument/2006/relationships/image" Target="../media/image113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6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7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1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0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22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23.wmf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24.wmf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png"/><Relationship Id="rId3" Type="http://schemas.openxmlformats.org/officeDocument/2006/relationships/image" Target="../media/image127.wmf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28.wmf"/><Relationship Id="rId2" Type="http://schemas.openxmlformats.org/officeDocument/2006/relationships/image" Target="../media/image129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3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33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34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35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36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png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40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41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42.wmf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udent will demonstrate an understanding of the structures and propertie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153280" y="304920"/>
            <a:ext cx="7621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  10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239240" cy="3251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6648480" cy="21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04920" y="3562200"/>
            <a:ext cx="3454200" cy="3295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029200" y="4419720"/>
            <a:ext cx="37242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8442360" y="0"/>
            <a:ext cx="473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B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5208480" cy="33973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4800600" y="5334120"/>
            <a:ext cx="41292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8442360" y="0"/>
            <a:ext cx="473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B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34120" y="4419720"/>
            <a:ext cx="358920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8442360" y="0"/>
            <a:ext cx="70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648320" y="4495680"/>
            <a:ext cx="421956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952880" y="4267080"/>
            <a:ext cx="3948120" cy="23734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8442360" y="0"/>
            <a:ext cx="47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D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442360" y="0"/>
            <a:ext cx="70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D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548840" cy="20592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295280" y="5105520"/>
            <a:ext cx="759456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8442360" y="0"/>
            <a:ext cx="70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D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4419720"/>
            <a:ext cx="9034560" cy="19461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2348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8442360" y="0"/>
            <a:ext cx="70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D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003480" cy="2880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887400" y="3135240"/>
            <a:ext cx="7369200" cy="585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2286000" cy="1712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2895480" y="3886200"/>
            <a:ext cx="2286000" cy="17049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5486400" y="3886200"/>
            <a:ext cx="2305080" cy="17496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6"/>
          <a:stretch/>
        </p:blipFill>
        <p:spPr>
          <a:xfrm>
            <a:off x="6019920" y="1066680"/>
            <a:ext cx="220968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8442360" y="0"/>
            <a:ext cx="70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724280" y="4267080"/>
            <a:ext cx="408312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8442360" y="0"/>
            <a:ext cx="70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2958840" cy="2835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689200" cy="23623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914400" y="228600"/>
            <a:ext cx="2689200" cy="2340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304920" y="3048120"/>
            <a:ext cx="2733480" cy="22953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5"/>
          <a:stretch/>
        </p:blipFill>
        <p:spPr>
          <a:xfrm>
            <a:off x="6454800" y="3200400"/>
            <a:ext cx="2689200" cy="22734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04920" y="990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0481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31240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43600" y="3429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6"/>
          <a:stretch/>
        </p:blipFill>
        <p:spPr>
          <a:xfrm>
            <a:off x="685800" y="5943600"/>
            <a:ext cx="732312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8442360" y="0"/>
            <a:ext cx="70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5105520" y="4267080"/>
            <a:ext cx="354312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848720" y="304920"/>
            <a:ext cx="76176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410080" y="4572000"/>
            <a:ext cx="34988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8442360" y="0"/>
            <a:ext cx="70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0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4120" y="4114800"/>
            <a:ext cx="3633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8442360" y="0"/>
            <a:ext cx="70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3498840" cy="32180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4724280" y="4267080"/>
            <a:ext cx="417348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8442360" y="0"/>
            <a:ext cx="70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3409920" cy="2610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181480" y="4572000"/>
            <a:ext cx="358956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8442360" y="0"/>
            <a:ext cx="54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D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10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5181480" y="4572000"/>
            <a:ext cx="35895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8442360" y="0"/>
            <a:ext cx="70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D I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10-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835520" y="4923000"/>
            <a:ext cx="43084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8442360" y="0"/>
            <a:ext cx="70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D I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 10-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438280" y="4952880"/>
            <a:ext cx="6378840" cy="15973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1143000" y="762120"/>
            <a:ext cx="69642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848720" y="304920"/>
            <a:ext cx="76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4120" y="4343400"/>
            <a:ext cx="34988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848720" y="304920"/>
            <a:ext cx="76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105520" y="4495680"/>
            <a:ext cx="38131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848720" y="304920"/>
            <a:ext cx="76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3498840" cy="1743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645160" y="4724280"/>
            <a:ext cx="349884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848720" y="304920"/>
            <a:ext cx="76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143480" cy="1778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371600" y="4876920"/>
            <a:ext cx="754848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848720" y="304920"/>
            <a:ext cx="76176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62520" y="3505320"/>
            <a:ext cx="44892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848720" y="304920"/>
            <a:ext cx="76176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343400" y="4114800"/>
            <a:ext cx="435456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848720" y="304920"/>
            <a:ext cx="76176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24280" y="4419720"/>
            <a:ext cx="394812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848720" y="304920"/>
            <a:ext cx="76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5703840" cy="1687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2280" y="2082960"/>
            <a:ext cx="2194200" cy="1879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666880" y="1676520"/>
            <a:ext cx="5659560" cy="4105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5137200"/>
            <a:ext cx="345456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Science Concep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ted Physics and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 knows relationships exist between properties of matter and its components. The student is expect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gate and identify properties of fluids including density, viscosity, and buoy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relate the chemical behavior of an element including bonding, to its placement on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) classify samples of matter from everyday life as being elements, compounds, or mix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848720" y="304920"/>
            <a:ext cx="761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 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4983120" cy="157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2840" y="304920"/>
            <a:ext cx="5748480" cy="527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791320" y="4888080"/>
            <a:ext cx="31906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229600" y="15228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10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10080" y="2133720"/>
            <a:ext cx="3094200" cy="2216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33720" y="2514600"/>
            <a:ext cx="2419200" cy="1957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33920" y="304920"/>
            <a:ext cx="3408120" cy="1822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33520" y="380880"/>
            <a:ext cx="2508120" cy="2114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648320" y="6095880"/>
            <a:ext cx="394812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848720" y="304920"/>
            <a:ext cx="761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groups contains members with similar chemical reac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971800"/>
            <a:ext cx="2895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Be,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, Mg,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, Y, Z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, N,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848720" y="304920"/>
            <a:ext cx="761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groups contains members with similar chemical reac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2971800"/>
            <a:ext cx="36576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Be,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e, Mg,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, Y, Z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, N,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56320" y="4618080"/>
            <a:ext cx="4082760" cy="1935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381880" y="0"/>
            <a:ext cx="60984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86400" y="4724280"/>
            <a:ext cx="32734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52880" y="4495680"/>
            <a:ext cx="390384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4400" y="5105520"/>
            <a:ext cx="7234200" cy="1349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73483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33720" y="152280"/>
            <a:ext cx="4128840" cy="809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3003840" cy="979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880" y="2819520"/>
            <a:ext cx="3048120" cy="1079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3094200" cy="1046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380880" y="5410080"/>
            <a:ext cx="3094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257800" y="4267080"/>
            <a:ext cx="35434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79800" y="5638680"/>
            <a:ext cx="4264200" cy="1013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848720" y="304920"/>
            <a:ext cx="761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0" y="4495680"/>
            <a:ext cx="42642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2463840" cy="517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29200" y="4800600"/>
            <a:ext cx="38592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638680" y="5105520"/>
            <a:ext cx="32292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354348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724280" y="4419720"/>
            <a:ext cx="4219560" cy="2138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73840" cy="3419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95280" y="4343400"/>
            <a:ext cx="25545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800600" y="4267080"/>
            <a:ext cx="35434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562720" y="4952880"/>
            <a:ext cx="336384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705312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257800" y="4876920"/>
            <a:ext cx="35892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381880" y="0"/>
            <a:ext cx="7621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398840" cy="2058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495680" y="3657600"/>
            <a:ext cx="435456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848720" y="304920"/>
            <a:ext cx="761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0880" y="4540320"/>
            <a:ext cx="381312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486400" y="4876920"/>
            <a:ext cx="3319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1880" y="0"/>
            <a:ext cx="7621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3962520"/>
            <a:ext cx="41734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4173480" cy="2654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362320" y="304920"/>
            <a:ext cx="42638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29200" y="4572000"/>
            <a:ext cx="3543480" cy="1913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811680" y="3276720"/>
            <a:ext cx="151920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81880" y="0"/>
            <a:ext cx="762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10-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7185240" cy="3014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562720" y="4876920"/>
            <a:ext cx="300348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1880" y="0"/>
            <a:ext cx="762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10-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4952880"/>
            <a:ext cx="3994200" cy="1597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81080" y="533520"/>
            <a:ext cx="394812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0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4120" y="4900680"/>
            <a:ext cx="367812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381880" y="0"/>
            <a:ext cx="7621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     10-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410080" y="4648320"/>
            <a:ext cx="34545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Science Concep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ted Physics and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ent knows that changes in matter affect everyday life. The student is expected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between physical and chemical changes in matter such as oxidation, digestion, changes in states, and stages in the rock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investigate and identify the law of conservation of m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848720" y="304920"/>
            <a:ext cx="609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3903840" cy="4321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495680" y="4572000"/>
            <a:ext cx="435456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1880" y="152280"/>
            <a:ext cx="7621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3589560" cy="333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403884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305920" y="22860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10/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495680" y="4495680"/>
            <a:ext cx="43992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305920" y="22860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562720" y="4800600"/>
            <a:ext cx="322884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305920" y="22860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876920" y="4800600"/>
            <a:ext cx="40827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05920" y="22860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495680" y="4343400"/>
            <a:ext cx="40831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305920" y="22860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34120" y="4648320"/>
            <a:ext cx="3363840" cy="1935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273348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305920" y="22860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7683480" cy="2306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6694560" cy="179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04920" y="2438280"/>
            <a:ext cx="6476760" cy="2695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35434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05920" y="22860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715000" y="5029200"/>
            <a:ext cx="32288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05920" y="22860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410080" y="4343400"/>
            <a:ext cx="349884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305920" y="22860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105520" y="4343400"/>
            <a:ext cx="363384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305920" y="22860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10/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410080" y="4876920"/>
            <a:ext cx="3498840" cy="17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848720" y="304920"/>
            <a:ext cx="76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10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257800" y="4952880"/>
            <a:ext cx="3543480" cy="1643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7729560" cy="2025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9320" y="3733920"/>
            <a:ext cx="6694200" cy="2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848720" y="30492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10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715000" y="5029200"/>
            <a:ext cx="32734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848720" y="30492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952880" y="4114800"/>
            <a:ext cx="363384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848720" y="30492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10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0" y="4114800"/>
            <a:ext cx="43545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848720" y="30492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10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495680" y="4267080"/>
            <a:ext cx="4443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305920" y="22860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11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7947000" cy="2870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52400" y="3309840"/>
            <a:ext cx="7637400" cy="236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572000" y="4419720"/>
            <a:ext cx="40831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848720" y="30492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10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257800" y="4191120"/>
            <a:ext cx="367812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848720" y="30492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495680" y="4114800"/>
            <a:ext cx="4308480" cy="2271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73840" cy="3419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255420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105520" y="4956120"/>
            <a:ext cx="3768480" cy="1901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8153280" y="22860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10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159000" y="3208320"/>
            <a:ext cx="28242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153280" y="22860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 10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399200" cy="2059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105520" y="4648320"/>
            <a:ext cx="367812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153280" y="22860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334120" y="4572000"/>
            <a:ext cx="34542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848720" y="304920"/>
            <a:ext cx="76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05520" y="3962520"/>
            <a:ext cx="36338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8153280" y="228600"/>
            <a:ext cx="7621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 10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666880" y="444600"/>
            <a:ext cx="2328840" cy="2070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181480" y="152280"/>
            <a:ext cx="2689200" cy="2711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2419200" cy="2745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1371600" y="5029200"/>
            <a:ext cx="7369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8153280" y="228600"/>
            <a:ext cx="7621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2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334120" y="5029200"/>
            <a:ext cx="3498840" cy="1484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40831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8153280" y="22860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952880" y="3505320"/>
            <a:ext cx="36784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153280" y="22860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34120" y="4495680"/>
            <a:ext cx="34988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848720" y="304920"/>
            <a:ext cx="76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10-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952880" y="4724280"/>
            <a:ext cx="3948120" cy="1879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844720" y="3181320"/>
            <a:ext cx="34545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848720" y="304920"/>
            <a:ext cx="76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 11-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876920" y="4267080"/>
            <a:ext cx="36781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7848720" y="304920"/>
            <a:ext cx="76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645160" y="4648320"/>
            <a:ext cx="34988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229600" y="152280"/>
            <a:ext cx="685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88092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229600" y="152280"/>
            <a:ext cx="685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371600" y="4876920"/>
            <a:ext cx="741348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229600" y="152280"/>
            <a:ext cx="685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981080" y="4800600"/>
            <a:ext cx="597384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848720" y="304920"/>
            <a:ext cx="76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257800" y="4952880"/>
            <a:ext cx="3589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229600" y="152280"/>
            <a:ext cx="685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9.5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257800" y="5410080"/>
            <a:ext cx="36338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229600" y="152280"/>
            <a:ext cx="685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267080" y="3505320"/>
            <a:ext cx="44434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229600" y="152280"/>
            <a:ext cx="685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67392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229600" y="152280"/>
            <a:ext cx="685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724280" y="3657600"/>
            <a:ext cx="4264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229600" y="152280"/>
            <a:ext cx="685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40848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8229600" y="152280"/>
            <a:ext cx="762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 10-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952880" y="4495680"/>
            <a:ext cx="3768840" cy="18669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296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229600" y="152280"/>
            <a:ext cx="762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 10-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229200" cy="41846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28600" y="4572000"/>
            <a:ext cx="3138480" cy="3380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5334120" y="4114800"/>
            <a:ext cx="358920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8534520" y="304920"/>
            <a:ext cx="609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404200" cy="27115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830160" y="5238720"/>
            <a:ext cx="83138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Science Concep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ted Physics and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 knows how solution chemistry is a part of everyday life. The student is expect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 the structure of water to is function [as the universal solvent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relate the concentration of ions in a solution to physical and chemical properties such as pH, electrolytic behavior, and re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demonstrate how various factors influence solubility including temperature, pressure, and nature of the solute and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8442360" y="0"/>
            <a:ext cx="70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10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924440" y="3887640"/>
            <a:ext cx="421956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848720" y="304920"/>
            <a:ext cx="76176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10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43084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442360" y="0"/>
            <a:ext cx="70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029200" y="4191120"/>
            <a:ext cx="3948120" cy="24526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41734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8442360" y="0"/>
            <a:ext cx="70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257800" y="5181480"/>
            <a:ext cx="363384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8442360" y="0"/>
            <a:ext cx="70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735520" y="4800600"/>
            <a:ext cx="34084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442360" y="0"/>
            <a:ext cx="70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724280" y="4191120"/>
            <a:ext cx="426420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8442360" y="0"/>
            <a:ext cx="70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267080" y="3581280"/>
            <a:ext cx="426420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442360" y="0"/>
            <a:ext cx="70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371600" y="5105520"/>
            <a:ext cx="7594560" cy="15523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2598840" cy="32068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419720" y="0"/>
            <a:ext cx="31845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8442360" y="0"/>
            <a:ext cx="70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10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791320" y="5029200"/>
            <a:ext cx="31845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8442360" y="0"/>
            <a:ext cx="70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0/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876920" y="4809960"/>
            <a:ext cx="40384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8442360" y="0"/>
            <a:ext cx="70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876920" y="4572000"/>
            <a:ext cx="36781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8442360" y="0"/>
            <a:ext cx="47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B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970520" y="4349880"/>
            <a:ext cx="41734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6:41:24Z</dcterms:created>
  <dc:creator>Tracy Jolivette</dc:creator>
  <dc:description/>
  <dc:language>en-US</dc:language>
  <cp:lastModifiedBy>Tracy Jolivette</cp:lastModifiedBy>
  <dcterms:modified xsi:type="dcterms:W3CDTF">2007-08-09T17:17:31Z</dcterms:modified>
  <cp:revision>116</cp:revision>
  <dc:subject/>
  <dc:title>Objective 4</dc:title>
</cp:coreProperties>
</file>